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CE07-D7F8-476D-9C1A-4D1162779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one of the points of interest for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map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picture of one of the geographic features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season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an animal and or plant found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 key points in the history of your country to the timeli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custom or tradition h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the head leader of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that illustrates some part of your country’s econom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AD4D-6F89-419D-B251-319517A3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2760-6505-4C25-A4E1-4AF55942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C3C6-53FB-4FF5-822F-4FD40E94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B73A-F3AA-4A8B-9954-1519FC38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15C7-802C-4BCC-827C-180CB7A4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5A96-9C64-4C6A-84F9-C21D6ACC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43A7-117E-476D-95F6-AA60B87F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124E-43EF-417E-9528-62C715CC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ABEE-D357-4FE7-9878-6BC4D0EF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9753-C97A-47B3-9C3F-2BF7A239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B0DB-F2D5-475F-A190-65F4A766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C300-F9C4-4094-A758-F0FC3A8F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7AED-ABAA-4B2D-9756-655E2FE9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3D31-92F0-472A-8723-8254FF72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865F-0A28-44CF-9154-16C1CD8B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40B3-2FB5-4ED1-897E-2C79DBD1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A8B7-2512-459C-8AAD-FAED9925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187A-6512-4CD2-8A33-21B2B893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80C-D926-4689-A92C-8BCE0D30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4F60-F28C-4759-8CD2-5001B874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A5D8-9684-4FEA-BE2B-34D6FCC7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7CDE-DE4C-461D-AB7E-8A750034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3DED-FD22-4C53-A062-F6090F08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0009-75C6-4785-9C71-378D7664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1498-5558-45B6-BCF9-B4915A69C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ED47-4359-4640-BE36-D33A646EF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71280" y="2168640"/>
            <a:ext cx="6891480" cy="16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Name of Your Countr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03848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Teac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Gr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ourism in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about the points of interest in your country that people from other countries may be interested in visi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647960" y="214776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urrent Event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tle of the ev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ry (5 sentenc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Literacy Rate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685800" y="214776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4776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Rainfall in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685800" y="214776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4776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emperature in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682560" y="2133720"/>
          <a:ext cx="7740720" cy="41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133720"/>
                    <a:ext cx="774072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Where (your country) is locate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which conti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r country is 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and wh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ntries are 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ighb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647960" y="213372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457200" y="22096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31280" y="799920"/>
            <a:ext cx="834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Geographic Features of (your country)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380988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any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vers, lakes, ocean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untain ranges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geograph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atures that can 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in or next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r cou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647960" y="20574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533520" y="243828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6705720" y="266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mate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8544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7242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about the typical weather patterns in your country throughout the calendar ye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297180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nvironment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ome of the environmental issues and natural hazards that take place in your cou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64796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5775480" y="263196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5410080" y="350532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3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story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21337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a timeline of the important historical events of your country or provi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50920" y="3249720"/>
          <a:ext cx="8664480" cy="3471840"/>
        </p:xfrm>
        <a:graphic>
          <a:graphicData uri="http://schemas.openxmlformats.org/drawingml/2006/table">
            <a:tbl>
              <a:tblPr/>
              <a:tblGrid>
                <a:gridCol w="1571760"/>
                <a:gridCol w="1594080"/>
                <a:gridCol w="1745640"/>
                <a:gridCol w="1746000"/>
                <a:gridCol w="1571760"/>
                <a:gridCol w="216000"/>
                <a:gridCol w="219240"/>
              </a:tblGrid>
              <a:tr h="1000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th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th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1844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ustoms and Tradition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68544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48320" y="22096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about the important customs and traditions celebrated in your country. Include information about who celebrates and when they celebr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5867280" y="304812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Government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what form of government and who is the leader of your country. Identify when and from whom your country gained independence fr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64796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5257800" y="32004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conomy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68544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48320" y="214776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which goods and services are produced in your country. What is the GDP per capita, unemployment rate, and population below the poverty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5T16:42:19Z</dcterms:created>
  <dc:creator>Connie Campbell</dc:creator>
  <dc:description/>
  <dc:language>en-US</dc:language>
  <cp:lastModifiedBy>teacher</cp:lastModifiedBy>
  <dcterms:modified xsi:type="dcterms:W3CDTF">2008-01-02T15:56:01Z</dcterms:modified>
  <cp:revision>4</cp:revision>
  <dc:subject/>
  <dc:title>Name of Your Country</dc:title>
</cp:coreProperties>
</file>